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979E-930F-4FBB-9D44-614130DA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2DB7-63D1-49AE-914A-E72BF5BD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C16F-9CEC-4C98-86E8-3268E432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AC03-5062-4A9A-9823-FCBBE80B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E24F-1881-40D3-9D43-348885FD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FD47-5885-4EAB-81EE-2E60B5E5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9415-388E-440D-AB4C-64549A82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E8E2-DA64-4D36-9299-E8CDDE9F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968F-1FFF-4932-AA6C-31BB8244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B5B8-C59E-4BDD-B070-7E8F1C9F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BB2E-2FE1-4A21-AD35-791BBF59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D63B-D441-416A-AC02-185FC2EB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65E3-174D-4C40-9B2D-88742FF01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od and Residue continued…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od adjuncts are related to the finite: express meanings associated with tense, polarity and modalit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eam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obvious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ing     to have to be repla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ubjec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F   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adjunct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ood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lock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Resid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adjunct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lement 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ood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lock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Resid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apted fro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ff Thompson 2004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Introducing Functional Gramma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don: Hodder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e 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.Droga &amp; S Humphries 2002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etting Started with Functional Gramma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SW: Target 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al Adjun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y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his ba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ubject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Finite 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Predicator 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Adjun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ood Block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Residue 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times, there are ‘extra items’ between the subject and the finite. E.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ways lying on his 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do you categorise ‘alway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extras’ are called Modal Adjun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commonl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nctive adjun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adjun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od adjun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nctive adjuncts (sometimes called ‘discourse markers’) signal how a clause fits in with preceding tex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junctive Adjunc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unctuation, on the other hand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oduced faithful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Subject 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</a:rPr>
              <a:t>(adjunct) 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cc33"/>
                </a:solidFill>
                <a:latin typeface="Arial"/>
              </a:rPr>
              <a:t>finite </a:t>
            </a:r>
            <a:r>
              <a:rPr b="0" lang="en-GB" sz="20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6600ff"/>
                </a:solidFill>
                <a:latin typeface="Arial"/>
              </a:rPr>
              <a:t>predicato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jun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Mo-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-od Block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6600ff"/>
                </a:solidFill>
                <a:latin typeface="Arial"/>
              </a:rPr>
              <a:t>Residue </a:t>
            </a:r>
            <a:r>
              <a:rPr b="0" lang="en-GB" sz="2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adjuncts typically comment on the clause as a who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nt adjunc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fortunately, this tendency has declin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197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djunct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ubject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finite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predicator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dju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 o  o   d              b  l  o  c  k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Resid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endency has, unfortunately,  declin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19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ubject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finite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adjunct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predicator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dju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 o  o   d              b  l  o  c  k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Resid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11:08:19Z</dcterms:created>
  <dc:creator>clarkuil</dc:creator>
  <dc:description/>
  <dc:language>en-US</dc:language>
  <cp:lastModifiedBy>clarkuil</cp:lastModifiedBy>
  <dcterms:modified xsi:type="dcterms:W3CDTF">2008-04-07T13:38:21Z</dcterms:modified>
  <cp:revision>3</cp:revision>
  <dc:subject/>
  <dc:title>Mood and Residue continued…….</dc:title>
</cp:coreProperties>
</file>